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8CFB-A72B-4694-801F-89574DE95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E8CE-00A2-4802-86C7-11BDC9F27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133C-217C-4DCF-A37D-74D986CB7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765D-0B27-43F3-B6A4-200F324E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79B9-E3B7-4AB9-83BD-D7692F189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F856-0B5B-4B7E-8FB2-3647AE58C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5EEC-6871-4F1C-9640-7073711B6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B38F-0EEE-4907-90ED-8C100A74B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8344-CB3D-46E8-AB9A-E7ADAA230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4E19-25B4-43F1-ADBB-5CDED68D7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09A0-5BE7-414C-B2B1-C05AB31A5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6C82-F3F3-41CF-8F16-2F4791F51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999D-E22A-4C09-B408-93AD6AB6F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278F-F2B9-4E4F-A2A6-4DA861A90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C2A8-8CBD-4471-B520-EB8A4689D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87E6-51B3-4961-8366-73B9C5293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83BD-9645-421C-9E97-3394D6A9E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9B70-9424-499E-BBF9-1B7B6D2CF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EA4F-432A-4056-9BA6-B6AA1F5C7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A52B-66A1-45C2-BBB3-B4E7C5587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BC96-D132-4AEF-BF3B-64704938B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B330-2798-4C64-B563-D2008B08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D10E-F83E-4F09-BC56-914B85971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D597-E961-4837-8DB0-511DD72F9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8935-BE17-41DF-A02D-227728467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F93E-4F56-4D08-A812-BD555ED5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3BE6-A409-4200-8BBC-EA44A8187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4B85-9936-4D15-9ED3-352F0F0CE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F2B3-72D6-4C66-AFE7-4C18BF974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56B4-C8B2-4376-AEB2-917D2DCBC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B7A3-AC5A-40A0-90C2-EAAEE99DA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0AFA-DB03-4E25-9F07-DAD25705B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371-24FD-48AC-A4BB-3EA077084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3C76-7C54-4FD1-B821-33E574916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29B68-6C26-43C9-89CD-AA2ADAB56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9AD1-6758-4F36-8D7B-BA553C58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F9CC9C5-C145-4887-8CF8-8F9EB7A8F2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7A7CFED-BDFE-4B63-A500-1BD2DDED7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B65266A-93C0-4A8B-9CF2-A7AB96234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83DE0DC-16D5-48D4-A0D5-8B5E30372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4197277-9E07-4C4D-8A4D-9E9788DD6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1290B41-44C1-4D71-AEBF-6AD7849E65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F9A7B30-91C6-46E4-B0AD-6DE226AD87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F465D23-C418-446F-A06F-0C80C723EB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93ABC53-70C2-48A9-891F-0C36D40A5D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E36DD-1CBC-4C11-82BC-C45D72968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A2954-C062-4D11-8410-817EF476A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390B0-7718-4683-9C50-790CD9727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200DC-2292-4AE3-ADCB-9186DDF97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2D8E-3818-4064-B637-149C0720B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6B8CA-6403-4E4F-885F-B226C1D75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373C6-0F10-4455-9783-B188CC1A8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C3684-06F0-48F6-B5E7-2BB132D7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18CD0-6EB3-4A96-B780-DBF1CD3EE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96B1-90D5-4FB4-8E64-6E6A328A6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19B06-7328-48F2-8D59-1E6184605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FD55-A650-4206-84C5-CA5B69797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6F0D3-94BC-4684-B049-A5B1C9145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CF73D-B8B1-4FCC-A99D-EE4AECC2B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DB2B8-5B1E-431A-96AC-8634AAF32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D03CA-5010-47CD-9DB2-7AED167CA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F9320-394D-48E7-B2D0-FA98964F7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E3ADB-3673-4F71-AA48-50BE13DE5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F66FB-379A-4230-8391-4A97675AE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0B206-C39D-460A-8C4B-42159AA67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6EF61-3B1D-4DEF-99FA-04B85D47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9E08F-8B32-4348-9E18-D5444560B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50676-7E18-4C0D-BD8F-08918D88E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7ACAF-F4F7-45B3-B267-9D4761D9D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0F93B-EC86-496F-A627-F733236ED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29724-78FE-4943-AF14-46FE56AC8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E1080-9FA3-41B9-8D47-57523DB08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93A20D-8F67-446B-BAFC-9C061EBCB5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B80BC-4DE0-43D2-9A9B-CDE160D43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AA749-487F-4CC5-A657-206CFADD5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088ED-4127-4E1D-BA32-0D846C193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AE38-7020-49A4-9F20-599975FD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912CF-DBA6-48EB-99DC-439D141AE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7E49F-F3F1-4E66-A573-26B9DBA49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73961-35AB-46C7-B3A5-465396BFA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3A6DE-859B-45C1-AF58-3DFEBA3B7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7CBC5-0232-4BB8-BBE6-915427762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04B0D-857F-4491-8DE5-460187107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E871D-61A8-492C-9F51-219D6427F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D21F9-B6C9-479C-91DA-B8637E5C53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DAA8D-BC57-4B40-A9CE-6904060E6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FC9AD68-DC18-4099-A26A-D0E0718B8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86C1-B562-4F1F-8C0E-0BC6A558D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43A4CF-D811-4D7F-90B9-D403F1EB9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32225F-901C-4001-88BD-77DF2EE09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C91815-88C8-4108-8FB5-ED3DA4B77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7426DD-80CC-4C9B-8B34-2F9EDC5CE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576591-2D89-44F9-A1AA-621CA0C3E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B99860-23DA-4C41-A470-81B847E3A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E50753-30BC-4103-B74D-1004460E7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B98178-16FA-478B-AD80-345543488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1025EA-79F9-4A8A-8C0B-09ECBE3A5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0292F3C-F469-4D6C-BAC6-182AA90F4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280D-8A9C-4629-8783-2A5EA3EA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7C093FF-42E2-4BF7-BCE6-B86A722B7D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8B0F61-2242-4CE6-9777-8E3AB3532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8390B-454B-46F8-9764-36419E6D4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07EE2-1098-4BAF-9BC2-8CDB6C622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BE281B-5162-426F-9A77-C4FBF6220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8CDFF-DAFB-4B14-B895-2D253DEA3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46B8F-8B9A-4FAE-9683-70C98A7B7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55547-AD25-4634-97A4-F33629B61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14FCC-F8C9-4A85-82AD-C1F83097B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5E091-81CE-4D3E-A307-B0CD00D66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2AD8-A95A-42EF-AE82-01B089B2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05ACF3-A14F-496E-A2D3-6B061AA89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E662D2-A9A6-41AC-BF9B-0763FC92B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56ADD4-0473-4389-AB53-07724BA9D3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BC2D2B-2276-4D84-BDE9-B2474E5F43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6886F7-A503-4131-8EA4-68089D747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63F27E-50A3-435E-B866-C1B4E47AA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FEE2DC-7F5F-4C68-8DF8-4B50FB80A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3153D0-F5CC-471D-8FC4-CDBC84BB2D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865FF1-71C8-45C6-A27E-426D76D371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798DB0-A4ED-44B7-9D96-E65AA32C8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22A8-8A69-4B5D-B9AD-1F16C331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B102E7-7446-4D74-A752-72FC43810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26E664-C02E-4816-99DF-A30EA6ABA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B73EA1-1ED3-411C-B43F-946AE1C8EB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6ADD62D-4343-43CA-B01B-BDFF9CEE46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598393F-9A2F-41B4-852F-833795FF90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BFDFEF1-3F3C-4587-AA2F-688FF5C21F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E2632BD-9728-4428-A4B8-4CDB577692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A90EDE5-3945-41AE-84F9-87ACD6E498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DB53F1B-1209-48C7-B76E-073A2CEB3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D39861F-D507-42B3-9AA5-6BB5AED32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6B8D-0A96-45C3-B434-39A2B5D9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D9B5AF8-3F49-4CF1-8D7A-F61746DE6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47B0A48-EB59-4F16-A7DB-D3896C86D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C5395E-32E2-4D9A-B31C-EA9F653E6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B0D1B27-BD8B-4FAF-9FBA-689B82B3D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8F58A2F-3D52-4A13-A777-5D634574E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C96BB40-A054-493A-B3F4-9448F4146E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D81D9BB-A46A-40D1-A906-FA1AECC186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5796FC5-4AAA-4192-AEF3-379DF108C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E6428DD-74F2-4B35-80FB-37C0CBEFE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A1A4C1-54FC-4909-9F31-9421EBB1F6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6874-DBA6-401A-8F75-AACCB5838F0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848B-5F39-464B-BB30-C0D1241FDE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90"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E4CF-8D18-47BF-B97A-C9765B1AEA1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 name="PlaceHolder 3"/>
          <p:cNvSpPr>
            <a:spLocks noGrp="1"/>
          </p:cNvSpPr>
          <p:nvPr>
            <p:ph type="dt" idx="10"/>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type="ftr" idx="11"/>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type="sldNum" idx="12"/>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41D2-6F4D-42C9-9406-8E487CB473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9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6498-414D-40FB-8341-194DFC8748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6"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3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51" name="PlaceHolder 3"/>
          <p:cNvSpPr>
            <a:spLocks noGrp="1"/>
          </p:cNvSpPr>
          <p:nvPr>
            <p:ph type="dt" idx="16"/>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4"/>
          <p:cNvSpPr>
            <a:spLocks noGrp="1"/>
          </p:cNvSpPr>
          <p:nvPr>
            <p:ph type="ftr" idx="17"/>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5"/>
          <p:cNvSpPr>
            <a:spLocks noGrp="1"/>
          </p:cNvSpPr>
          <p:nvPr>
            <p:ph type="sldNum" idx="18"/>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C729-2365-4BE1-B5B7-EB953C5853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9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98"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52B2-AFCB-47E6-B095-77DCEEF52B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0"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6"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1B53-DE70-42ED-B987-9897D5D7EE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8"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4"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9E9A-1289-43D6-8B07-ED4644D7B1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OODROW WILSON AND THE GREAT WAR</a:t>
            </a:r>
            <a:endParaRPr b="0" lang="en-US" sz="3000" spc="-1" strike="noStrike">
              <a:solidFill>
                <a:srgbClr val="575f6d"/>
              </a:solidFill>
              <a:latin typeface="Century Schoolbook"/>
            </a:endParaRPr>
          </a:p>
        </p:txBody>
      </p:sp>
      <p:sp>
        <p:nvSpPr>
          <p:cNvPr id="44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http://wps.ablongman.com/wps/media/objects/244/250679/ppt/ch24.pp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oad to War</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n effort to mediate the European conflict, Wilson sent his advisor, Colonel Edward M. House, to negotiate with the belligerents</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the failure of the House mission, America moved ever closer to intervention</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urope refused to respond to Wilson’s plea in January 1917 for peace without victor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that, a series of events led the United States closer to war</a:t>
            </a:r>
            <a:endParaRPr b="0" lang="en-US" sz="21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ermany resumed unrestricted submarine warfare in February </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Zimmermann telegram was released in March, after which Wilson authorized the arming of American merchantme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 April 2, 1917, Wilson requested that Congress declare war on German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 April 6, the Senate voted 82 to 6 and the House 373 to 50 in favor of war</a:t>
            </a:r>
            <a:endParaRPr b="0" lang="en-US" sz="21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izing the Econom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entry into the war assured an Allied victo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onversion of America’s economy to a wartime footing proceeded slowly, and the war ended before much of the process was complet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scription did not begin to mobilize nation’s military manpower until September 1917</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several false starts, Wilson created the War Industries Board (WIB) to direct industrial mobilization</a:t>
            </a:r>
            <a:endParaRPr b="0" lang="en-US" sz="21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 was more successful in mobilizing food supplies under the leadership of Herbert Hoover, a mining engineer and former head of the Belgian Relief Commission, who was appointed to supervise agricultural productio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artime government planning and regulation began a new era in cooperation between government and business</a:t>
            </a:r>
            <a:endParaRPr b="0" lang="en-US" sz="21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rkers in Wartim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mands of a wartime economy, coupled with a shortage of workers, lowered unemplo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mmigration was reduced to a trickle; wages rose; and unemployment disappear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power shortages created new employment opportunities for blacks, women, and other disadvantaged grou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acks left South for jobs in northern factori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ile government did act to forestall strikes, its actions also opened the way for unionization of many previously unorganized industries</a:t>
            </a:r>
            <a:endParaRPr b="0" lang="en-US" sz="2100" spc="-1" strike="noStrike">
              <a:solidFill>
                <a:srgbClr val="000000"/>
              </a:solidFill>
              <a:latin typeface="Century School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ying for the Wa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war cost the federal government about $33.5 billion, not counting pensions and other postwar expens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borrowing financed over two-thirds of the war’s co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ddition to direct loans, the sale of Liberty and Victory bonds raised millio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steeply graduated income tax, increased inheritance taxes, and an excess-profits tax helped the federal government raise over $10.5 billion in tax monies</a:t>
            </a:r>
            <a:endParaRPr b="0" lang="en-US" sz="21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paganda and Civil Libertie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 rally public support, Wilson named George Creel to head the newly created Committee on Public Information (CPI)</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PI churned out propaganda portraying the war as a crusade for freedom and democrac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the midst of wartime hysteria, little distinction was made between constitutionally guaranteed rights of dissent and illegal acts of sedition or treaso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signed Espionage Act of 1917 and  Sedition Act of 1918, which went far beyond what was necessary to protect national interest</a:t>
            </a:r>
            <a:endParaRPr b="0" lang="en-US" sz="21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rtime Reform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wartime experience was part and product of the Progressive Er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exigencies of war opened the way for government involvement in many social and economic area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new generation of professionally educated, reform-minded individuals found employment in the federal bureaucracy, and it appeared that the war was creating a sense of common purpose that might stimulate the public to cooperate to achieve selfless goals</a:t>
            </a:r>
            <a:endParaRPr b="0" lang="en-US" sz="21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omen’s suffrage, economic opportunities for blacks, gains in workmen’s compensation, and prohibition were but a few of the reforms of the war era</a:t>
            </a:r>
            <a:endParaRPr b="0" lang="en-US" sz="21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men and Blacks in Wartime</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omen found employment in new fields during the war, but for the majority these gains were short-lived</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raditional views of a “woman’s role,” the desire to rehire veterans, and the opposition of many unions prevented women from consolidating their employment gain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 than a half million southern blacks moved north to cities between 1914 and 1919</a:t>
            </a:r>
            <a:endParaRPr b="0" lang="en-US" sz="21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456840" y="274320"/>
            <a:ext cx="746748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OODROW WILSON AND THE GREAT WAR</a:t>
            </a:r>
            <a:endParaRPr b="0" lang="en-US" sz="3600" spc="-1" strike="noStrike">
              <a:solidFill>
                <a:srgbClr val="575f6d"/>
              </a:solidFill>
              <a:latin typeface="Century Schoolbook"/>
            </a:endParaRPr>
          </a:p>
        </p:txBody>
      </p:sp>
      <p:sp>
        <p:nvSpPr>
          <p:cNvPr id="445" name=""/>
          <p:cNvSpPr txBox="1"/>
          <p:nvPr/>
        </p:nvSpPr>
        <p:spPr>
          <a:xfrm>
            <a:off x="456840" y="1600200"/>
            <a:ext cx="7467480" cy="487368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lson’s “Moral” Diplomacy</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set the moral tone for his foreign policy by denouncing dollar diplomacy</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some matters, idealism provided an adequate basis for foreign policy</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 persuaded Japan to modify the harshness of its Twenty-one Demands (1915) against China</a:t>
            </a:r>
            <a:endParaRPr b="0" lang="en-US" sz="21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grating blacks met with hostility and, on occasion, violence; however, many realized an improvement in their social and political statu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acks who joined the armed forces served in segregated unit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jority of black servicemen were assigned to support and labor units, but many did fight and die for their count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bout 200,000 blacks served in Europ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y blacks, including W. E. B. Du Bois, hoped that their patriotism would bring political equality when the war was over</a:t>
            </a:r>
            <a:endParaRPr b="0" lang="en-US" sz="21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ericans To the Trenches and Over the Top  </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 than 2 million Americans served in Europe</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the American Expeditionary Force (AEF), under the command of General Pershing, reached France on July 4, 1917, American forces did not see action until the battles of Château-Thierry, Belleau Wood, and Soissons in 1918</a:t>
            </a:r>
            <a:endParaRPr b="0" lang="en-US" sz="21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largest engagement, the drive west through the Argonne Forest, involved over 1.2 million men and proved instrumental in ending the wa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November 1918, an armistice ended the Great Wa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n casualties totaled 112,432 dead and 230,074 wounded</a:t>
            </a:r>
            <a:endParaRPr b="0" lang="en-US" sz="2100" spc="-1" strike="noStrike">
              <a:solidFill>
                <a:srgbClr val="000000"/>
              </a:solidFill>
              <a:latin typeface="Century Schoolbook"/>
            </a:endParaRPr>
          </a:p>
          <a:p>
            <a:pPr marL="272880" indent="-272880">
              <a:lnSpc>
                <a:spcPct val="12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ing for Peace</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hostilities ended in November, the shape of postwar Europe had yet to be decided</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entral Powers, Germany in particular, anticipated a settlement based on Wilson’s Fourteen Point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ctors, especially England and France, found many of its provisions unacceptable</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journeyed to Paris and attempted personally to guide course of peace conference</a:t>
            </a:r>
            <a:endParaRPr b="0" lang="en-US" sz="21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3" name=""/>
          <p:cNvSpPr txBox="1"/>
          <p:nvPr/>
        </p:nvSpPr>
        <p:spPr>
          <a:xfrm>
            <a:off x="685800" y="533160"/>
            <a:ext cx="7772400" cy="5562360"/>
          </a:xfrm>
          <a:prstGeom prst="rect">
            <a:avLst/>
          </a:prstGeom>
          <a:noFill/>
          <a:ln w="0">
            <a:noFill/>
          </a:ln>
        </p:spPr>
        <p:txBody>
          <a:bodyPr lIns="90360" rIns="90360" tIns="44280" bIns="44280"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th Wilson out of the country and preoccupied with the peace conference, the domestic political situation deteriora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re was growing discontent over his farm and tax policies; despite its gains during the war, labor was restiv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over, Wilson had exacerbated his political difficulties by making a partisan appeal for the election of a Democratic Congress in 1918</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publicans won majorities in both houses, and Wilson faced a hostile Congress</a:t>
            </a:r>
            <a:endParaRPr b="0" lang="en-US" sz="21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President compounded his problems by failing to appoint any leading Republicans or any members of the Senate to the peace commission, thus making it less likely that the Senate would ratify the treaty</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
          <p:cNvSpPr txBox="1"/>
          <p:nvPr/>
        </p:nvSpPr>
        <p:spPr>
          <a:xfrm>
            <a:off x="685800" y="456840"/>
            <a:ext cx="7772400" cy="563868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aris Peace Conference and the Versailles Treat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Big Four,” David Lloyd George of England, Wilson of the United States, Georges Clemenceau of France, and Vittorio Orlando of Italy, dominated the Paris Peace Confer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r more concerned over security, war guilt, and reparations than Wilsonian goals of justice and international harmony, the European victors all but ignored Wilsonian goals of open diplomacy, freedom of the seas, and national self-determi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expected that League of Nations would make up for deficiencies in Versailles Treaty</a:t>
            </a:r>
            <a:endParaRPr b="0" lang="en-US" sz="2100" spc="-1" strike="noStrike">
              <a:solidFill>
                <a:srgbClr val="000000"/>
              </a:solidFill>
              <a:latin typeface="Century School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enate and the League of N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 pacify American opponents, Wilson persuaded the Great Powers to exclude “domestic questions,” such as tariff and immigration policies and the Monroe Doctrine from the purview of the League; but this did not ensure its acceptance with America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nate Republicans split into three anti-League cam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irreconcilables” rejected League membership on any terms</a:t>
            </a:r>
            <a:endParaRPr b="0" lang="en-US" sz="21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
          <p:cNvSpPr txBox="1"/>
          <p:nvPr/>
        </p:nvSpPr>
        <p:spPr>
          <a:xfrm>
            <a:off x="685800" y="533160"/>
            <a:ext cx="7772400" cy="556236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mild reservationists” backed membership, subject to minor revisions of League’s charte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jority Republican opposition, the “strong reservationists” led by Henry Cabot Lodge of Massachusetts, would accept the League only if American sovereignty were fully protect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refused to yield any ground and undertook a nationwide speaking tour to rally support for the trea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Pueblo, Colorado, Wilson collapsed and had to return to Washingt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rejected all compromise, and the Senate rejected the Treaty</a:t>
            </a:r>
            <a:endParaRPr b="0" lang="en-US" sz="2100" spc="-1" strike="noStrike">
              <a:solidFill>
                <a:srgbClr val="000000"/>
              </a:solidFill>
              <a:latin typeface="Century School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bilization</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most immediately after signing the Armistice, the government removed its economic controls, blithely assuming that the economy could readjust itself without direction</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llions of men were demobilized rapidl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se swift and unregulated changes in the economy soon created problem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flation spiraled; by 1920 the cost of living stood at twice the level of 1913</a:t>
            </a:r>
            <a:endParaRPr b="0" lang="en-US" sz="21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re vital interests were concerned, however, the primacy of America’s interests outweighed Wilson’s idealism</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mportance of the Panama Canal made Wilson unwilling to tolerate unrest in the Caribbea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s most fervent missionary diplomacy manifested itself in Mexico, where his personal abhorrence of the Mexican dictator, Victoriano Huerta, led to American military intervention in Mexico’s internal affairs</a:t>
            </a:r>
            <a:endParaRPr b="0" lang="en-US" sz="2100" spc="-1" strike="noStrike">
              <a:solidFill>
                <a:srgbClr val="000000"/>
              </a:solidFill>
              <a:latin typeface="Century School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uring 1919, one out of five employees engaged in strike actions</a:t>
            </a:r>
            <a:endParaRPr b="0" lang="en-US" sz="2100" spc="-1" strike="noStrike">
              <a:solidFill>
                <a:srgbClr val="000000"/>
              </a:solidFill>
              <a:latin typeface="Century Schoolbook"/>
            </a:endParaRPr>
          </a:p>
          <a:p>
            <a:pPr lvl="1" marL="639720" indent="-272880">
              <a:lnSpc>
                <a:spcPct val="14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n came a precipitous economic decline; between July 1920 and March 1922, prices fell and unemployment surged</a:t>
            </a:r>
            <a:endParaRPr b="0" lang="en-US" sz="2100" spc="-1" strike="noStrike">
              <a:solidFill>
                <a:srgbClr val="000000"/>
              </a:solidFill>
              <a:latin typeface="Century School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d Scare</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bor unrest, fear of Bolshevism, failure to distinguish between unions and communism, economic flux, and the xenophobic tenor of wartime propaganda fostered near hysteria in postwar America and led to the phenomenon known as the Red Scare</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January 1920, Attorney General A. Mitchell Palmer organized a series of raids against radicals</a:t>
            </a:r>
            <a:endParaRPr b="0" lang="en-US" sz="2100" spc="-1" strike="noStrike">
              <a:solidFill>
                <a:srgbClr val="000000"/>
              </a:solidFill>
              <a:latin typeface="Century School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f the more than 6,000 “radical” foreigners seized, only 556 proved liable to deportation</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the massive uprising that Palmer predicted for May Day 1920 failed to materialize, the Red Scare swiftly subsided</a:t>
            </a:r>
            <a:endParaRPr b="0" lang="en-US" sz="2100" spc="-1" strike="noStrike">
              <a:solidFill>
                <a:srgbClr val="000000"/>
              </a:solidFill>
              <a:latin typeface="Century Schoolbook"/>
            </a:endParaRPr>
          </a:p>
          <a:p>
            <a:pPr marL="272880" indent="-272880">
              <a:lnSpc>
                <a:spcPct val="13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lection of 1920</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Democrats nominated James A. Cox of Ohio, who favored membership in the Leagu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Republican nominee, Warren G. Harding, also of Ohio, equivocated on the issue, despite his Senate record as a strong reservationi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arding’s smashing victory over Cox signaled more than America’s rejection of the Leagu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voters’ response to Harding’s call for a return to “normalcy” suggested that Americans sought an end to the period of agitation and reform that had begun with Theodore Roosevelt</a:t>
            </a:r>
            <a:endParaRPr b="0" lang="en-US" sz="21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3"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 Explodes in War</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World War I broke out in Europe, most Americans believed that the conflict did not concern them</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promptly issued a proclamation of neutralit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war’s affront to progressive ideals, combined with the traditional American fear of entanglement in European affairs, provided ample justification for neutrality</a:t>
            </a:r>
            <a:endParaRPr b="0" lang="en-US" sz="21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ough most Americans wanted to stay out of the war, nearly all were partial to one side or the othe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eople of German, Austrian, and Irish descent sympathized with the Central Powers; the majority, however, influenced by the ties of Anglo-American culture and successful Allied propaganda, sided with the Allies</a:t>
            </a:r>
            <a:endParaRPr b="0" lang="en-US" sz="2100" spc="-1" strike="noStrike">
              <a:solidFill>
                <a:srgbClr val="000000"/>
              </a:solidFill>
              <a:latin typeface="Century Schoolbook"/>
            </a:endParaRPr>
          </a:p>
          <a:p>
            <a:pPr marL="272880" indent="-272880">
              <a:lnSpc>
                <a:spcPct val="12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eedom of the S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icipating the economic benefits of trading with all belligerents, the United States found Britain’s control of the Atlantic frustrat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itain declared nearly all commodities to be contraband of wa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British tactics frequently exasperated Wilson, they did not result in the loss of innocent lives; therefore, Wilson never seriously considered an embargo</a:t>
            </a:r>
            <a:endParaRPr b="0" lang="en-US" sz="21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5"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iven British naval superiority and the economic importance of America, any action by the United States inevitably had a negative impact on one side or the othe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ltimately, increased trade with the Allies and profits from loans to France and England tied America more closely to the Alli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ddition, Germany’s use of submarine warfare brought new questions to issues of naval warfare and neutral rights</a:t>
            </a:r>
            <a:endParaRPr b="0" lang="en-US" sz="2100" spc="-1" strike="noStrike">
              <a:solidFill>
                <a:srgbClr val="000000"/>
              </a:solidFill>
              <a:latin typeface="Century Schoolbook"/>
            </a:endParaRPr>
          </a:p>
          <a:p>
            <a:pPr lvl="1" marL="639720" indent="-272880">
              <a:lnSpc>
                <a:spcPct val="8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xtremely vulnerable on the surface and too small to carry survivors, U-boats could not play by the old rules of war</a:t>
            </a:r>
            <a:endParaRPr b="0" lang="en-US" sz="21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result was often a heavy loss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sinking of the </a:t>
            </a:r>
            <a:r>
              <a:rPr b="0" i="1" lang="en-US" sz="2100" spc="-1" strike="noStrike">
                <a:solidFill>
                  <a:srgbClr val="000000"/>
                </a:solidFill>
                <a:latin typeface="Century Schoolbook"/>
              </a:rPr>
              <a:t>Lusitania</a:t>
            </a:r>
            <a:r>
              <a:rPr b="0" lang="en-US" sz="2100" spc="-1" strike="noStrike">
                <a:solidFill>
                  <a:srgbClr val="000000"/>
                </a:solidFill>
                <a:latin typeface="Century Schoolbook"/>
              </a:rPr>
              <a:t> (May 1915), with the loss of 128 American lives, brought an outcry from the America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dragging out the controversy for nearly a year, Germany apologized and agreed to pay an indemni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sinking of the </a:t>
            </a:r>
            <a:r>
              <a:rPr b="0" i="1" lang="en-US" sz="2100" spc="-1" strike="noStrike">
                <a:solidFill>
                  <a:srgbClr val="000000"/>
                </a:solidFill>
                <a:latin typeface="Century Schoolbook"/>
              </a:rPr>
              <a:t>Sussex</a:t>
            </a:r>
            <a:r>
              <a:rPr b="0" lang="en-US" sz="2100" spc="-1" strike="noStrike">
                <a:solidFill>
                  <a:srgbClr val="000000"/>
                </a:solidFill>
                <a:latin typeface="Century Schoolbook"/>
              </a:rPr>
              <a:t> in 1916 produced another strong American protest, which led the Germans to promise, in the </a:t>
            </a:r>
            <a:r>
              <a:rPr b="0" i="1" lang="en-US" sz="2100" spc="-1" strike="noStrike">
                <a:solidFill>
                  <a:srgbClr val="000000"/>
                </a:solidFill>
                <a:latin typeface="Century Schoolbook"/>
              </a:rPr>
              <a:t>Sussex</a:t>
            </a:r>
            <a:r>
              <a:rPr b="0" lang="en-US" sz="2100" spc="-1" strike="noStrike">
                <a:solidFill>
                  <a:srgbClr val="000000"/>
                </a:solidFill>
                <a:latin typeface="Century Schoolbook"/>
              </a:rPr>
              <a:t> pledge, to stop sinking merchant ships without warning</a:t>
            </a:r>
            <a:endParaRPr b="0" lang="en-US" sz="21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lection of 1916</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cing a unified Republican party in 1916, Wilson sought the support of progressiv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 nominated Lewis D. Brandeis to Supreme Court, signed the Farm Loan Act, approved the Keating-Owens Child Labor Act and a workmen’s compensation package for federal employees, and modified his stance on the tariff</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s maintenance of American neutrality and his progressive domestic policies won for him a narrow victory over Republican challenger Charles Evans Hughes</a:t>
            </a:r>
            <a:endParaRPr b="0" lang="en-US" sz="21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20:26:26Z</dcterms:created>
  <dc:creator>D95GRAD</dc:creator>
  <dc:description/>
  <dc:language>en-US</dc:language>
  <cp:lastModifiedBy>Ameena</cp:lastModifiedBy>
  <dcterms:modified xsi:type="dcterms:W3CDTF">2008-04-23T20:06:43Z</dcterms:modified>
  <cp:revision>3</cp:revision>
  <dc:subject/>
  <dc:title>WOODROW WILSON AND THE GREAT WAR</dc:title>
</cp:coreProperties>
</file>